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A9B-BB2B-4518-94AA-AB0EDC34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0A7-812C-411D-8997-D6BB9C2C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6CA-00C0-4670-8580-F822655F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0CA-A84C-452E-907B-0196B088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022-428E-4F53-8E46-1783F5BB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51F-2864-4D91-9FE8-10DA1845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C57-EC1E-463D-A0A1-E4E76A99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4C42-FF7A-4592-8581-33D80CF9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5AA1-1D3B-42C0-8A3D-DAF3BA61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D57B-1548-41FB-A758-95F1A0C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7D4D-5FEA-43BE-92B6-0DB7596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EC0-1405-4693-9C70-0602AC4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5F97-CA40-4E79-AD69-316DCDF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63E-6059-4788-B720-3C6D095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E3E2-914E-42D0-873E-083C7DF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268-157E-4F17-88EE-BE867C6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56E2-9927-4F5F-8341-56DE7F4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3FC-ED3F-4A0F-B84F-7C1C68C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2F0-0B7D-421B-8E2E-DBF2A07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E17-4DD9-4F6C-9D43-C9A07EE3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CDB-7A98-494D-865B-045731F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692-4705-4E5A-BA1F-1EC387F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871-A7D2-42A1-9BC8-F2C4BA1B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40E-83AE-4A06-AF4B-BB4079A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BAD-112B-46C2-A691-3F88F6B20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9049-FFD4-49D6-83D3-035AE1866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TOAMNA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97220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29320" y="16956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imes New Roman"/>
              </a:rPr>
              <a:t>Este un anotim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8320" y="3068640"/>
            <a:ext cx="35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9900"/>
                </a:solidFill>
                <a:latin typeface="Times New Roman"/>
              </a:rPr>
              <a:t>Lunile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SEPTE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- OCTO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- NOIE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Bucuriile pe care ni le oferă toamna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561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Gustăm din roadele toamnei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17492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4174920" cy="23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Admirăm culorile 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640" y="836640"/>
            <a:ext cx="801072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c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ă păsările călătoar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Începe şcoal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19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Poezii de toamn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981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755800" cy="524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413080" cy="955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148360" y="4653000"/>
            <a:ext cx="2762280" cy="147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96000" y="2924280"/>
            <a:ext cx="18288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trecut intai o bo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e deasupra viilor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 furat de prin pono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uful papadiilo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acorduri lungi de li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-au raspuns fanete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Toate florile soptir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torcandu-si fete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salcam privi spre mu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Mandru ca o flamu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olzii frunzelor maru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-au zburlit pe-o ramu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Mai tarziu, o cotofa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ara ocupat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adus o veste-n goa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 facut senzati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ica-n munte, la povarn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lopii si rasur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pun ca vine-un vant de iar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Rascolind padur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uzind din depart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ocea lui tiranic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Toti ciulinii pe car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ug cuprinsi de panica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Zvonul prin livezi coboa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lo jos, pe mlastin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-a-ntalnit un pui de cio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-un batlan de basti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din treacat ii arun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lta veste stran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-au pornit-o peste lun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runzele-n bejani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tr-o clipa, alarmat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es din santuri vrabi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apura pe lac se zb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Leganandu-si sabi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lastun, in frac, ap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us pe-un varf de trest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sa tie-o cuvant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 aceasta chest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Dar broscoii din rastoa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l insulta-n pau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din papura-l provoa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prelungi aplauz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Lisitele-ncep sa stri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de mama foculu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costarci, pe catalig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in la fata loculu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tantar, nervos si foar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lab de constitut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 zadar vrea sa ia par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el la discut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nd deodata un eret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olitai din naster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este balta si bosche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ine-n recunoaste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porunca de la centr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ntra vinovatului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sa-l aresteze pentr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guranta statului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De emotie, in surdin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ub un snop de boz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O pastaie de sulci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facut exploz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2664000" cy="338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4000" y="76500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Rapsodii de toamnă,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George Topîrcea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O toamnă minunată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47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8:46Z</dcterms:created>
  <dc:creator>cursant</dc:creator>
  <dc:description/>
  <dc:language>en-US</dc:language>
  <cp:lastModifiedBy>cursant</cp:lastModifiedBy>
  <dcterms:modified xsi:type="dcterms:W3CDTF">2010-09-02T08:20:15Z</dcterms:modified>
  <cp:revision>6</cp:revision>
  <dc:subject/>
  <dc:title>TOAMNA</dc:title>
</cp:coreProperties>
</file>